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50B76-DE9A-45C3-9D84-30DFAC1D4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A280E-706C-4A27-8669-1F0D0D903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F0235-B97F-4039-9B04-829F6BA25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359F6-3A21-482F-BCAB-C3DBD5829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79077-E15F-4585-9EEB-AAC33A2BF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C0E13-774E-4BF8-895F-9CD543328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08868-212D-46F3-A8EC-1FA9C970F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E1E61-62FB-47D9-A781-DD1859471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2589F-0B7E-4D4B-8456-9BF8A3395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2A269-3863-4BF6-BDE4-F4693EAFF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5CCD1-AD55-431D-BBEC-3B637F8F2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E25E1-071F-4E31-9E28-35480C58E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B132E-CD68-4426-A931-46F272BB5EE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845640" y="1624320"/>
            <a:ext cx="7315920" cy="405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                  </a:t>
            </a:r>
            <a:r>
              <a:rPr b="1" i="1" lang="ru-RU" sz="3200" spc="-1" strike="noStrike">
                <a:solidFill>
                  <a:srgbClr val="006600"/>
                </a:solidFill>
                <a:latin typeface="Arial"/>
              </a:rPr>
              <a:t>Дорогие ребята!</a:t>
            </a: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Если   вы   много   читаете,   смотрит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телевизор и  сидите  за  компьютером,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от  этого  глаза сильно устают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Я покажу вам  специальную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глазную   гимнастику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      </a:t>
            </a:r>
            <a:r>
              <a:rPr b="1" i="1" lang="ru-RU" sz="3200" spc="-1" strike="noStrike">
                <a:solidFill>
                  <a:srgbClr val="006600"/>
                </a:solidFill>
                <a:latin typeface="Arial"/>
              </a:rPr>
              <a:t>Вот что посоветовал докто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laptop"/>
          <p:cNvSpPr/>
          <p:nvPr/>
        </p:nvSpPr>
        <p:spPr>
          <a:xfrm>
            <a:off x="6156360" y="404640"/>
            <a:ext cx="2314440" cy="1656000"/>
          </a:xfrm>
          <a:custGeom>
            <a:avLst/>
            <a:gdLst>
              <a:gd name="textAreaLeft" fmla="*/ 476280 w 2314440"/>
              <a:gd name="textAreaRight" fmla="*/ 1855080 w 2314440"/>
              <a:gd name="textAreaTop" fmla="*/ 142200 h 1656000"/>
              <a:gd name="textAreaBottom" fmla="*/ 944640 h 1656000"/>
            </a:gdLst>
            <a:ahLst/>
            <a:rect l="textAreaLeft" t="textAreaTop" r="textAreaRight" b="textAreaBottom"/>
            <a:pathLst>
              <a:path w="21600" h="21600">
                <a:moveTo>
                  <a:pt x="3362" y="0"/>
                </a:moveTo>
                <a:lnTo>
                  <a:pt x="18327" y="0"/>
                </a:lnTo>
                <a:lnTo>
                  <a:pt x="18327" y="14347"/>
                </a:lnTo>
                <a:lnTo>
                  <a:pt x="3362" y="14347"/>
                </a:lnTo>
                <a:lnTo>
                  <a:pt x="3362" y="0"/>
                </a:lnTo>
                <a:close/>
              </a:path>
              <a:path w="21600" h="21600">
                <a:moveTo>
                  <a:pt x="3340" y="15068"/>
                </a:moveTo>
                <a:lnTo>
                  <a:pt x="0" y="19877"/>
                </a:lnTo>
                <a:lnTo>
                  <a:pt x="21600" y="19877"/>
                </a:lnTo>
                <a:lnTo>
                  <a:pt x="18327" y="15068"/>
                </a:lnTo>
                <a:lnTo>
                  <a:pt x="3340" y="15068"/>
                </a:lnTo>
                <a:close/>
              </a:path>
              <a:path w="21600" h="21600">
                <a:moveTo>
                  <a:pt x="0" y="19877"/>
                </a:moveTo>
                <a:lnTo>
                  <a:pt x="0" y="21600"/>
                </a:lnTo>
                <a:lnTo>
                  <a:pt x="21600" y="21600"/>
                </a:lnTo>
                <a:lnTo>
                  <a:pt x="21600" y="19877"/>
                </a:lnTo>
                <a:lnTo>
                  <a:pt x="0" y="19877"/>
                </a:lnTo>
                <a:close/>
              </a:path>
              <a:path w="21600" h="21600">
                <a:moveTo>
                  <a:pt x="4186" y="1523"/>
                </a:moveTo>
                <a:lnTo>
                  <a:pt x="17547" y="1523"/>
                </a:lnTo>
                <a:lnTo>
                  <a:pt x="17547" y="12744"/>
                </a:lnTo>
                <a:lnTo>
                  <a:pt x="4186" y="12744"/>
                </a:lnTo>
                <a:lnTo>
                  <a:pt x="4186" y="1523"/>
                </a:lnTo>
                <a:close/>
              </a:path>
              <a:path w="21600" h="21600">
                <a:moveTo>
                  <a:pt x="3318" y="15549"/>
                </a:moveTo>
                <a:lnTo>
                  <a:pt x="2917" y="16110"/>
                </a:lnTo>
                <a:lnTo>
                  <a:pt x="18727" y="16110"/>
                </a:lnTo>
                <a:lnTo>
                  <a:pt x="18327" y="15549"/>
                </a:lnTo>
                <a:lnTo>
                  <a:pt x="3318" y="15549"/>
                </a:lnTo>
                <a:close/>
              </a:path>
              <a:path w="21600" h="21600">
                <a:moveTo>
                  <a:pt x="6213" y="18314"/>
                </a:moveTo>
                <a:lnTo>
                  <a:pt x="5946" y="18875"/>
                </a:lnTo>
                <a:lnTo>
                  <a:pt x="15766" y="18875"/>
                </a:lnTo>
                <a:lnTo>
                  <a:pt x="15499" y="18314"/>
                </a:lnTo>
                <a:lnTo>
                  <a:pt x="6213" y="18314"/>
                </a:lnTo>
                <a:close/>
              </a:path>
              <a:path w="21600" h="21600">
                <a:moveTo>
                  <a:pt x="2828" y="16471"/>
                </a:moveTo>
                <a:lnTo>
                  <a:pt x="2405" y="17072"/>
                </a:lnTo>
                <a:lnTo>
                  <a:pt x="19284" y="17072"/>
                </a:lnTo>
                <a:lnTo>
                  <a:pt x="18839" y="16471"/>
                </a:lnTo>
                <a:lnTo>
                  <a:pt x="2828" y="16471"/>
                </a:lnTo>
                <a:close/>
              </a:path>
              <a:path w="21600" h="21600">
                <a:moveTo>
                  <a:pt x="2316" y="17352"/>
                </a:moveTo>
                <a:lnTo>
                  <a:pt x="1871" y="17953"/>
                </a:lnTo>
                <a:lnTo>
                  <a:pt x="19863" y="17953"/>
                </a:lnTo>
                <a:lnTo>
                  <a:pt x="19395" y="17352"/>
                </a:lnTo>
                <a:lnTo>
                  <a:pt x="2316" y="17352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2"/>
          <p:cNvSpPr/>
          <p:nvPr/>
        </p:nvSpPr>
        <p:spPr>
          <a:xfrm>
            <a:off x="477000" y="409320"/>
            <a:ext cx="7264440" cy="57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1. «Вращение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He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 двигая головой, начинайте вращат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глазами сначала по часовой стрелке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потом в обратную сторон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По 10 раз туд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и обратно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Получается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А теперь то ж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самое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тольк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с закрытым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глаз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3" descr="1"/>
          <p:cNvPicPr/>
          <p:nvPr/>
        </p:nvPicPr>
        <p:blipFill>
          <a:blip r:embed="rId2"/>
          <a:stretch/>
        </p:blipFill>
        <p:spPr>
          <a:xfrm>
            <a:off x="4932360" y="2708280"/>
            <a:ext cx="358920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475200" y="837000"/>
            <a:ext cx="458676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2. «Во все стороны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Не поворачивая головы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двигайте глазам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вверх-вниз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вправо-влево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По 10- 15 раз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3" descr="2"/>
          <p:cNvPicPr/>
          <p:nvPr/>
        </p:nvPicPr>
        <p:blipFill>
          <a:blip r:embed="rId2"/>
          <a:stretch/>
        </p:blipFill>
        <p:spPr>
          <a:xfrm>
            <a:off x="5003640" y="2637000"/>
            <a:ext cx="3521160" cy="373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401760" y="766080"/>
            <a:ext cx="6081480" cy="48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1882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3. «Пальчик»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82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82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Прижмите палец к переносице 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82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посмотрите на него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82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Затем медленно отводите палец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82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от себя, продолжа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82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следить за ни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82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глазам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82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Повторите эт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82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упражнен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82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несколько раз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3" descr="3"/>
          <p:cNvPicPr/>
          <p:nvPr/>
        </p:nvPicPr>
        <p:blipFill>
          <a:blip r:embed="rId2"/>
          <a:stretch/>
        </p:blipFill>
        <p:spPr>
          <a:xfrm>
            <a:off x="5219640" y="3068640"/>
            <a:ext cx="3268800" cy="33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402120" y="838080"/>
            <a:ext cx="6139440" cy="527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511200"/>
                <a:tab algn="l" pos="1082520"/>
                <a:tab algn="l" pos="2004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4. «Кто там?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11200"/>
                <a:tab algn="l" pos="1082520"/>
                <a:tab algn="l" pos="2004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11200"/>
                <a:tab algn="l" pos="1082520"/>
                <a:tab algn="l" pos="2004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Зажмурьтесь посильнее, а зате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11200"/>
                <a:tab algn="l" pos="1082520"/>
                <a:tab algn="l" pos="2004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широко откройте глаз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11200"/>
                <a:tab algn="l" pos="1082520"/>
                <a:tab algn="l" pos="2004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словно в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11200"/>
                <a:tab algn="l" pos="1082520"/>
                <a:tab algn="l" pos="2004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чему-т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11200"/>
                <a:tab algn="l" pos="1082520"/>
                <a:tab algn="l" pos="2004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очен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11200"/>
                <a:tab algn="l" pos="1082520"/>
                <a:tab algn="l" pos="2004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удивились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11200"/>
                <a:tab algn="l" pos="1082520"/>
                <a:tab algn="l" pos="2004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Повторит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11200"/>
                <a:tab algn="l" pos="1082520"/>
                <a:tab algn="l" pos="2004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ещё раз.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3" descr="4"/>
          <p:cNvPicPr/>
          <p:nvPr/>
        </p:nvPicPr>
        <p:blipFill>
          <a:blip r:embed="rId2"/>
          <a:stretch/>
        </p:blipFill>
        <p:spPr>
          <a:xfrm>
            <a:off x="3635280" y="2924280"/>
            <a:ext cx="4913280" cy="34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2"/>
          <p:cNvSpPr/>
          <p:nvPr/>
        </p:nvSpPr>
        <p:spPr>
          <a:xfrm>
            <a:off x="474840" y="765720"/>
            <a:ext cx="4223880" cy="356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5. «Моргание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Поморгайте, быстро 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сильно сжима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век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Как можн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больше 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быстре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3" descr="5"/>
          <p:cNvPicPr/>
          <p:nvPr/>
        </p:nvPicPr>
        <p:blipFill>
          <a:blip r:embed="rId2"/>
          <a:stretch/>
        </p:blipFill>
        <p:spPr>
          <a:xfrm>
            <a:off x="3276720" y="2924280"/>
            <a:ext cx="5244840" cy="342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2"/>
          <p:cNvSpPr/>
          <p:nvPr/>
        </p:nvSpPr>
        <p:spPr>
          <a:xfrm>
            <a:off x="395280" y="-169200"/>
            <a:ext cx="7791480" cy="612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720360" tIns="914040" bIns="457200" anchor="ctr">
            <a:spAutoFit/>
          </a:bodyPr>
          <a:p>
            <a:pPr>
              <a:tabLst>
                <a:tab algn="l" pos="0"/>
                <a:tab algn="l" pos="2832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6. «Сон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32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32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А теперь закройте глаза и расслабьтесь, будт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32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собираетесь спать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32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Подумайте 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32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чём-нибуд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32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очен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32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приятном.  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32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3" descr="6"/>
          <p:cNvPicPr/>
          <p:nvPr/>
        </p:nvPicPr>
        <p:blipFill>
          <a:blip r:embed="rId2"/>
          <a:stretch/>
        </p:blipFill>
        <p:spPr>
          <a:xfrm>
            <a:off x="5076720" y="2492280"/>
            <a:ext cx="3417840" cy="384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"/>
          <p:cNvSpPr/>
          <p:nvPr/>
        </p:nvSpPr>
        <p:spPr>
          <a:xfrm>
            <a:off x="968400" y="1024560"/>
            <a:ext cx="71362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Друзья, берегите зрение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И тогда вы сможете много читат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и узнавать обо всём на све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3" descr="j0240719"/>
          <p:cNvPicPr/>
          <p:nvPr/>
        </p:nvPicPr>
        <p:blipFill>
          <a:blip r:embed="rId2"/>
          <a:stretch/>
        </p:blipFill>
        <p:spPr>
          <a:xfrm>
            <a:off x="3564000" y="3429000"/>
            <a:ext cx="2003400" cy="314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3T13:24:27Z</dcterms:created>
  <dc:creator>Сергей</dc:creator>
  <dc:description/>
  <dc:language>en-US</dc:language>
  <cp:lastModifiedBy>Ксения Мичуева</cp:lastModifiedBy>
  <dcterms:modified xsi:type="dcterms:W3CDTF">2017-11-29T03:21:36Z</dcterms:modified>
  <cp:revision>6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40030000000000010250600207f5200358026400</vt:lpwstr>
  </property>
</Properties>
</file>